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170D9-4C19-4E1D-A5A4-DA063CE10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FEA0A-63F2-4BB2-8334-5BA1A3E61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7E3535-C217-49D6-9A55-D6478A21D8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724F0D-19C4-4E18-B58D-6EF08DFAC0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16D93A-6AC8-452D-94E5-43E576F560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07AFCE-CEC9-493E-BBCD-6BF9C3F4B8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FDEE5D-0B20-4DE9-B91D-96E109B1ED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EF149D-84C1-4E52-90FA-E885C43022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9C5090-E2CB-4AD2-9505-CE799F3F1A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64AB25-BA6C-4A16-8DD4-A0CAAB2CBD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AD7692-BA8D-4067-9C58-46BA066EF2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A4A76-09B8-4C13-99E1-AE7D52ED5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7CDD4-89BA-47C8-9C8F-2B60E78F8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43D59-2C5B-4F3C-A018-ABE05471E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FFFAA-CC86-4F9D-8DD7-98C2CE4CC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0AF74-04CB-450E-8084-70DD6A261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DEE60-E92F-4DB0-9792-69F14AD24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FBAB9-069C-45AF-8503-35733A7A0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0356C-4724-43C4-8141-910B25365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BA3DB-AAB1-41A0-A4DA-60200B28C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5C970-8B48-4DCD-B3A6-432B3958E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9737F-706B-4D09-A5BD-032715D50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16474-D246-4FA2-AECE-7A2B05014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70F68-7E40-46BC-BBE1-43E14E96D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F106B-5322-440E-AA68-8679E26A0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F9C1F-F0E6-429C-94D5-696ACB6A4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BB0738-33F0-43EF-B113-B571A2E4C4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1017E8-DBC2-4C84-A37F-1BC1FDCF7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D73C5-00AD-4CC1-98DC-1D1DD692F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96A0B-8FFE-4E0E-B426-17C9FCC7E6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B0661E-496D-4135-84D5-B031B12F4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E8374-9DC5-452A-91AF-18137320B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B187D7-CE11-4C26-95FE-A8DC2C7C6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78D1B-225E-4F95-A7BD-4253147AF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FA7FF-D8CD-4E05-9422-EF7C4BFD37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E63F0-B22D-42B1-91B9-19D5F8EFF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898ECF-CE79-42CB-92E9-2788487C70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674EB9-A3CF-4362-B273-C79AAC0BB6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C162C1-E6C6-45EC-AD1A-6017A7EA3C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581334-5307-47FE-9704-D5956EA232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1CF39B-D107-4797-B6E6-51CFD7A39B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F3F1B-1964-4BC7-A043-2BBFAA7D6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54358-4920-4FCA-8AA5-A69D0C7D9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A25DD4-667B-4580-B51B-4EB4B42E1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4E4772-87B3-47F2-9895-ADF58619CC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C93D3D-D01F-408B-8378-E2751FABB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304214-97F3-4753-8538-58D767790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E039F-5EBC-488C-96A3-E5A74B3CF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AEDB9-1AFC-47EA-8DBB-640BB8F6D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8E61A-4A21-4DA1-9D1E-F2C902F4D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0BABDF-8AAE-4EEB-87EF-125037BCFF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96DF10-0CDD-45E8-9ECA-E9B02907C8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30D48D-1B75-4BFE-91F2-408C3ED132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78AF3-E388-48AA-A42A-EDDD8FA91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077F51-AC02-4C16-9227-DDA08A11EF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11C3A7-01F6-4AFB-BFAD-1E5DBDEBB2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1E416F-7CCD-4992-A2F3-A61139C70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F3E4C8-FA0B-4AF2-9F61-AD773BF7D9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7A125-A576-4AD8-94A3-21D04F928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DC787B-B590-4D18-A5E3-AC34E98FB1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AF7A1-EF07-46FB-9553-A7BB6421C7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69513C-6EF6-4F37-A282-4631DDCF74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59078-3A17-42FC-8940-BA20F0EF2A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37F5BA-C75C-45E7-A580-752762FEE5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B0DB3-43ED-4B09-9672-02256E61F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3F1F5B-A127-445C-8803-BEE2378865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EC8914-7A60-480E-A7C0-EC8398ED90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3B5105-4EB6-4F9B-8F2B-4A379E05AC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5063F5-E3C5-4F05-8392-EB9E790B87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21A54D-C0E5-4DFB-B205-A44210B61A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759654-AEB6-49D5-BD20-C7A6B03C35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47779C-A8ED-438D-9D9C-A62074B118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EE0030-65E3-42E8-A97F-31166A2848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BC5A9-50F6-4219-BE22-C94EB654F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87B85C-2858-4271-B16F-9BCDDC6DF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8651A-08E4-4412-9742-79C0DE10E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60E141-360B-433A-AC23-B0A5A34F28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17F0B4-8EDF-44E3-B540-5B46D9F186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EAD561-2A49-4256-ABEC-D5B85E7124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B59815-89FA-4CE8-AEBF-C880D2B796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AB660-BFA8-47C2-9EF4-2374FC8981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81D94A-DB83-46BE-A3C0-525667634F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7BD469-9F8A-4B89-8231-FEEB448F64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4C171-65B8-4C31-AF0C-9B65D63750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148FB-2006-4070-B161-D07B0E3B26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3EBD2B-5B71-470A-9C9D-B5EDC77C6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0CCAE-9B4B-4002-87ED-67BE943BA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2E6BD6-2C96-46F5-9A64-31405E68C4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296598-FBEF-4AEB-844B-A2FBEAA16E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FF4857-6F3D-4E2D-9C2A-9672EB0D27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4CBFCB-6E2F-4C51-813B-78F6DACDAE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3BEAFF-57AF-45F7-96F8-DABCEA7FF6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E9F06F-D8A5-40DD-8716-AF2DCC7F2B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2A6E5D-D573-44FE-AD8C-CBC65395B9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50912E-5672-4591-A79E-7134FDF4AB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7B68BB-5709-47E3-B67B-271DC142C3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7FA350-FB55-4659-9520-2AFD157F95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76E40-35C6-455F-BA85-6C758F630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2D0272-C0DD-4056-BCC9-E740824072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8057BF-39A7-4FC9-A87B-F049270DFD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4807C5-0BC1-4255-B87A-5036AA66E4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888F4-E149-4CBC-A73A-5BCE548CEE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27D6D6-2C3E-4EE0-8BE2-1848736DE6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EB27FB-79AF-49E4-B074-DBF3B4F540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4E64A5-1568-42F3-B9DD-68AF4E3198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58D638-D740-4CA1-B833-EBC8160EE7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426848-F4C6-484A-B900-8CB5FB3E39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6D06E1-802F-4CA3-A135-B985265331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AFF9-3A77-4CC0-A9A2-6D9111477777}"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D82B-E1CA-48C8-9638-832C2A2486CB}"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1D7C-2497-49E3-A775-73B19CE420C4}"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4D74-9075-49D5-AA17-48363972226E}" type="slidenum">
              <a:rPr b="0" lang="lv-LV"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78B6-63F9-4F07-9E9E-89A2018D4EFF}"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3D3C-98E7-4D4F-8FB0-E79A51213CA7}"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C419-D443-4EC6-9A2D-E9824AA27C88}"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D6FC-6AB4-4F65-BCA0-02F8B52E9DB9}"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814C-2F06-4F64-A958-56DF3CFF3520}"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4000" y="5300280"/>
            <a:ext cx="7592760" cy="1198440"/>
          </a:xfrm>
          <a:prstGeom prst="rect">
            <a:avLst/>
          </a:prstGeom>
          <a:noFill/>
          <a:ln w="0">
            <a:noFill/>
          </a:ln>
        </p:spPr>
        <p:txBody>
          <a:bodyPr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Verdana"/>
              </a:rPr>
              <a:t>2008.GADA 28. MARTĀ</a:t>
            </a:r>
            <a:endParaRPr b="0" lang="en-US" sz="1800" spc="-1" strike="noStrike">
              <a:solidFill>
                <a:srgbClr val="4e3b30"/>
              </a:solidFill>
              <a:latin typeface="Franklin Gothic Book"/>
            </a:endParaRPr>
          </a:p>
        </p:txBody>
      </p:sp>
      <p:sp>
        <p:nvSpPr>
          <p:cNvPr id="400" name="Text Box 13"/>
          <p:cNvSpPr/>
          <p:nvPr/>
        </p:nvSpPr>
        <p:spPr>
          <a:xfrm>
            <a:off x="684360" y="1557360"/>
            <a:ext cx="8065800" cy="61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NTSP SOCIĀLĀS  DROŠĪBAS APAKŠPADOMES</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DARBĪBAS PĀRSKATS </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07</a:t>
            </a:r>
            <a:endParaRPr b="0" i="1" lang="en-US" sz="32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Ziņo: I. HOMKO</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95280" y="404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 jautājumu virzību izskatīšanai NTSP</a:t>
            </a:r>
            <a:endParaRPr b="0" i="1" lang="en-US" sz="2400" spc="-1" strike="noStrike">
              <a:solidFill>
                <a:srgbClr val="000000"/>
              </a:solidFill>
              <a:latin typeface="CentSchbook TL"/>
            </a:endParaRPr>
          </a:p>
        </p:txBody>
      </p:sp>
      <p:sp>
        <p:nvSpPr>
          <p:cNvPr id="416" name=""/>
          <p:cNvSpPr/>
          <p:nvPr/>
        </p:nvSpPr>
        <p:spPr>
          <a:xfrm>
            <a:off x="539640" y="1197000"/>
            <a:ext cx="820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Ja</a:t>
            </a:r>
            <a:r>
              <a:rPr b="0" lang="lv-LV" sz="2000" spc="-1" strike="noStrike">
                <a:solidFill>
                  <a:srgbClr val="000000"/>
                </a:solidFill>
                <a:latin typeface="CentSchbook TL"/>
              </a:rPr>
              <a:t> </a:t>
            </a:r>
            <a:r>
              <a:rPr b="0" lang="lv-LV" sz="2000" spc="-1" strike="noStrike">
                <a:solidFill>
                  <a:srgbClr val="000000"/>
                </a:solidFill>
                <a:latin typeface="Calibri"/>
              </a:rPr>
              <a:t>Sociālās drošības apakšpadome nolemj jautājumu virzīt izskatīšanai NTSP, Sociālās drošības apakšpadomes sekretārs šo jautājumu, ar to saistītos materiālus un Sociālās drošības apakšpadomes lēmumu, noradot personu, kas ziņos NTSP sēdē, septiņu dienu laikā pēc sēdes iesniedz NTSP sekretariā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 SDA nolikums, II., VI. sadaļa)</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2708280"/>
            <a:ext cx="8244000" cy="58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alibri"/>
              </a:rPr>
              <a:t>                </a:t>
            </a:r>
            <a:r>
              <a:rPr b="0" lang="en-US" sz="3200" spc="-1" strike="noStrike">
                <a:solidFill>
                  <a:srgbClr val="4e3b30"/>
                </a:solidFill>
                <a:latin typeface="Calibri"/>
              </a:rPr>
              <a:t>Paldies par uzmanību.</a:t>
            </a:r>
            <a:endParaRPr b="0" lang="en-US" sz="3200" spc="-1" strike="noStrike">
              <a:solidFill>
                <a:srgbClr val="4e3b30"/>
              </a:solidFill>
              <a:latin typeface="Franklin Gothic Medium"/>
            </a:endParaRPr>
          </a:p>
        </p:txBody>
      </p:sp>
      <p:sp>
        <p:nvSpPr>
          <p:cNvPr id="418" name="Rectangle 2"/>
          <p:cNvSpPr/>
          <p:nvPr/>
        </p:nvSpPr>
        <p:spPr>
          <a:xfrm>
            <a:off x="395280" y="3933720"/>
            <a:ext cx="82440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Sylfaen"/>
              </a:rPr>
              <a:t>  </a:t>
            </a:r>
            <a:endParaRPr b="0" i="1" lang="en-US" sz="32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Rectangle 5" descr=""/>
          <p:cNvPicPr/>
          <p:nvPr/>
        </p:nvPicPr>
        <p:blipFill>
          <a:blip r:embed="rId2"/>
          <a:stretch/>
        </p:blipFill>
        <p:spPr>
          <a:xfrm>
            <a:off x="603360" y="-6480"/>
            <a:ext cx="8547120" cy="6870960"/>
          </a:xfrm>
          <a:prstGeom prst="rect">
            <a:avLst/>
          </a:prstGeom>
          <a:ln w="0">
            <a:noFill/>
          </a:ln>
        </p:spPr>
      </p:pic>
      <p:sp>
        <p:nvSpPr>
          <p:cNvPr id="402" name="PlaceHolder 1"/>
          <p:cNvSpPr>
            <a:spLocks noGrp="1"/>
          </p:cNvSpPr>
          <p:nvPr>
            <p:ph/>
          </p:nvPr>
        </p:nvSpPr>
        <p:spPr>
          <a:xfrm>
            <a:off x="214200" y="1356840"/>
            <a:ext cx="8507520" cy="4643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s mērķis veicināt mieru, stiprināt savas vērtības un savu tautu labklājību; </a:t>
            </a:r>
            <a:endParaRPr b="0" lang="en-US" sz="28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 atzīst un savā līmenī veicina sociālo partneru lomu, ņemot vērā valstu sistēmu dažādību; tā veicina dialogu sociālo partneru starpā, ievērojot viņu autonomiju”</a:t>
            </a:r>
            <a:endParaRPr b="0" lang="en-US" sz="2800" spc="-1" strike="noStrike">
              <a:solidFill>
                <a:srgbClr val="4e3b30"/>
              </a:solidFill>
              <a:latin typeface="Franklin Gothic Boo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CentSchbook TL"/>
              </a:rPr>
              <a:t>                  </a:t>
            </a:r>
            <a:endParaRPr b="0" lang="en-US" sz="2400" spc="-1" strike="noStrike">
              <a:solidFill>
                <a:srgbClr val="4e3b30"/>
              </a:solidFill>
              <a:latin typeface="Franklin Gothic Book"/>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3b30"/>
                </a:solidFill>
                <a:latin typeface="CentSchbook TL"/>
              </a:rPr>
              <a:t>                                                                         </a:t>
            </a:r>
            <a:r>
              <a:rPr b="1" lang="en-US" sz="1600" spc="-1" strike="noStrike">
                <a:solidFill>
                  <a:srgbClr val="4e3b30"/>
                </a:solidFill>
                <a:latin typeface="CentSchbook TL"/>
              </a:rPr>
              <a:t>(LISABONAS LĪGUMS, 2.,136.a pants)</a:t>
            </a: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txBox="1"/>
          <p:nvPr/>
        </p:nvSpPr>
        <p:spPr>
          <a:xfrm>
            <a:off x="0" y="1197000"/>
            <a:ext cx="9144000" cy="4456080"/>
          </a:xfrm>
          <a:prstGeom prst="rect">
            <a:avLst/>
          </a:prstGeom>
          <a:noFill/>
          <a:ln w="0">
            <a:noFill/>
          </a:ln>
        </p:spPr>
        <p:txBody>
          <a:bodyPr anchor="t">
            <a:normAutofit/>
          </a:bodyPr>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Sociālās apdrošināšanas padome - </a:t>
            </a:r>
            <a:r>
              <a:rPr b="1" lang="lv-LV" sz="3200" spc="-1" strike="noStrike">
                <a:solidFill>
                  <a:srgbClr val="4e3b30"/>
                </a:solidFill>
                <a:latin typeface="Franklin Gothic Book"/>
              </a:rPr>
              <a:t>SAP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LR Ministru kabineta lēmums Nr.45 1994.gada 17.maijā</a:t>
            </a:r>
            <a:r>
              <a:rPr b="0" i="1" lang="lv-LV" sz="1800" spc="-1" strike="noStrike">
                <a:solidFill>
                  <a:srgbClr val="4e3b30"/>
                </a:solidFill>
                <a:latin typeface="Calibri"/>
              </a:rPr>
              <a:t>);</a:t>
            </a:r>
            <a:endParaRPr b="0" lang="en-US" sz="1800" spc="-1" strike="noStrike">
              <a:solidFill>
                <a:srgbClr val="4e3b30"/>
              </a:solidFill>
              <a:latin typeface="Franklin Gothic Book"/>
            </a:endParaRPr>
          </a:p>
          <a:p>
            <a:pPr lvl="2" marL="1143000" indent="-228600">
              <a:lnSpc>
                <a:spcPct val="100000"/>
              </a:lnSpc>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NTSP Sociālās drošības apakšpadome – </a:t>
            </a:r>
            <a:r>
              <a:rPr b="1" lang="lv-LV" sz="3200" spc="-1" strike="noStrike">
                <a:solidFill>
                  <a:srgbClr val="4e3b30"/>
                </a:solidFill>
                <a:latin typeface="Franklin Gothic Book"/>
              </a:rPr>
              <a:t>SDA</a:t>
            </a:r>
            <a:r>
              <a:rPr b="1" lang="lv-LV" sz="3200" spc="-1" strike="noStrike">
                <a:solidFill>
                  <a:srgbClr val="4e3b30"/>
                </a:solidFill>
                <a:latin typeface="Arial"/>
              </a:rPr>
              <a:t>,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e3b30"/>
                </a:solidFill>
                <a:latin typeface="Calibri"/>
              </a:rPr>
              <a:t>SAP tiesību, pienākumu un saistību pārmantotāja sociālās drošības jomā</a:t>
            </a:r>
            <a:endParaRPr b="0" lang="en-US" sz="18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NTSP, 2003.gada 12.novembrī</a:t>
            </a:r>
            <a:r>
              <a:rPr b="0" i="1" lang="lv-LV" sz="1800" spc="-1" strike="noStrike">
                <a:solidFill>
                  <a:srgbClr val="4e3b30"/>
                </a:solidFill>
                <a:latin typeface="Calibri"/>
              </a:rPr>
              <a:t>)</a:t>
            </a:r>
            <a:r>
              <a:rPr b="0" i="1" lang="lv-LV" sz="1800" spc="-1" strike="noStrike">
                <a:solidFill>
                  <a:srgbClr val="4e3b30"/>
                </a:solidFill>
                <a:latin typeface="Arial"/>
              </a:rPr>
              <a:t>.</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2" descr=""/>
          <p:cNvPicPr/>
          <p:nvPr/>
        </p:nvPicPr>
        <p:blipFill>
          <a:blip r:embed="rId2"/>
          <a:stretch/>
        </p:blipFill>
        <p:spPr>
          <a:xfrm>
            <a:off x="103320" y="450720"/>
            <a:ext cx="8894520" cy="1152720"/>
          </a:xfrm>
          <a:prstGeom prst="rect">
            <a:avLst/>
          </a:prstGeom>
          <a:ln w="0">
            <a:noFill/>
          </a:ln>
        </p:spPr>
      </p:pic>
      <p:sp>
        <p:nvSpPr>
          <p:cNvPr id="405" name=""/>
          <p:cNvSpPr txBox="1"/>
          <p:nvPr/>
        </p:nvSpPr>
        <p:spPr>
          <a:xfrm>
            <a:off x="304920" y="1125000"/>
            <a:ext cx="8686800" cy="4954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speciālo budžetu izpildi un prognozes;</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niedz priekšlikumus par sociālas apdrošināšanas līdzekļu efektīvāku izmanto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obligāto iemaksu administrē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agatavo priekšlikumus par nepieciešamajiem grozījumiem likumos un citos normatīvajos aktos sociālās drošības jomā;</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piedalās normatīvo aktu sociālās drošības jomā pilnveidošanā atbilstoši Eiropas sociālās hartas , kā arī citu starptautisko institūciju rekomendāciju prasībām;</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veic informatīvi izglītojošu darbu darba dēvēju un darbinieku organizācijās par aktualitātēm sociālās drošības jautājumos</a:t>
            </a:r>
            <a:r>
              <a:rPr b="0" lang="en-US" sz="2200" spc="-1" strike="noStrike">
                <a:solidFill>
                  <a:srgbClr val="4e3b30"/>
                </a:solidFill>
                <a:latin typeface="Arial"/>
              </a:rPr>
              <a:t>;</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826920" y="1628640"/>
            <a:ext cx="73454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x</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SDA viens no instrumentiem sociālā dialoga veicināšanai valstī.</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Rectangle 2" descr=""/>
          <p:cNvPicPr/>
          <p:nvPr/>
        </p:nvPicPr>
        <p:blipFill>
          <a:blip r:embed="rId2"/>
          <a:stretch/>
        </p:blipFill>
        <p:spPr>
          <a:xfrm>
            <a:off x="225360" y="450720"/>
            <a:ext cx="8772480" cy="8542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Valdības</a:t>
            </a:r>
            <a:r>
              <a:rPr b="0" lang="en-US" sz="2800" spc="-1" strike="noStrike">
                <a:solidFill>
                  <a:srgbClr val="4e3b30"/>
                </a:solidFill>
                <a:latin typeface="Calibri"/>
              </a:rPr>
              <a:t> pārstāvji (3) –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Labklājīb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Ekonomik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Finanšu ministrija;</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Darba dēvēju konfederācijas</a:t>
            </a:r>
            <a:r>
              <a:rPr b="0" lang="en-US" sz="2800" spc="-1" strike="noStrike">
                <a:solidFill>
                  <a:srgbClr val="4e3b30"/>
                </a:solidFill>
                <a:latin typeface="Calibri"/>
              </a:rPr>
              <a:t> pārstāvji (3);</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Brīvo arodbiedrību savienības </a:t>
            </a:r>
            <a:r>
              <a:rPr b="0" lang="en-US" sz="2800" spc="-1" strike="noStrike">
                <a:solidFill>
                  <a:srgbClr val="4e3b30"/>
                </a:solidFill>
                <a:latin typeface="Calibri"/>
              </a:rPr>
              <a:t>pārstāvji (3)</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5" descr=""/>
          <p:cNvPicPr/>
          <p:nvPr/>
        </p:nvPicPr>
        <p:blipFill>
          <a:blip r:embed="rId2"/>
          <a:stretch/>
        </p:blipFill>
        <p:spPr>
          <a:xfrm>
            <a:off x="371520" y="476280"/>
            <a:ext cx="8772480" cy="8539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afiks;</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plāna izstrādā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izskatāmo jautājumu loks (Bērnu un ģimenes lietu ministrijas kompetenc</a:t>
            </a:r>
            <a:r>
              <a:rPr b="0" lang="en-US" sz="2000" spc="-1" strike="noStrike">
                <a:solidFill>
                  <a:srgbClr val="4e3b30"/>
                </a:solidFill>
                <a:latin typeface="Arial"/>
              </a:rPr>
              <a:t>ē</a:t>
            </a:r>
            <a:r>
              <a:rPr b="0" lang="en-US" sz="2000" spc="-1" strike="noStrike">
                <a:solidFill>
                  <a:srgbClr val="4e3b30"/>
                </a:solidFill>
                <a:latin typeface="Calibri"/>
              </a:rPr>
              <a:t> esošie jautājumi sociālās drošības jomā);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rezultātu  izvērtē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upu izveid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publicitāt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s partneri (VSAA,VID,VDI,FKTK, CSP);</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 ar NTSP apakšpadomēm (DLTSA)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Rectangle 2" descr=""/>
          <p:cNvPicPr/>
          <p:nvPr/>
        </p:nvPicPr>
        <p:blipFill>
          <a:blip r:embed="rId2"/>
          <a:stretch/>
        </p:blipFill>
        <p:spPr>
          <a:xfrm>
            <a:off x="237960" y="450720"/>
            <a:ext cx="8759880" cy="85428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85000"/>
          </a:bodyPr>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veicinošie faktori</a:t>
            </a:r>
            <a:r>
              <a:rPr b="0" lang="lv-LV" sz="2400" spc="-1" strike="noStrike">
                <a:solidFill>
                  <a:srgbClr val="4e3b30"/>
                </a:solidFill>
                <a:latin typeface="Calibri"/>
              </a:rPr>
              <a:t>:</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sociālo partneru aktīvā līdzda</a:t>
            </a:r>
            <a:r>
              <a:rPr b="0" lang="lv-LV" sz="2000" spc="-1" strike="noStrike">
                <a:solidFill>
                  <a:srgbClr val="4e3b30"/>
                </a:solidFill>
                <a:latin typeface="Arial"/>
              </a:rPr>
              <a:t>l</a:t>
            </a:r>
            <a:r>
              <a:rPr b="0" lang="lv-LV" sz="2000" spc="-1" strike="noStrike">
                <a:solidFill>
                  <a:srgbClr val="4e3b30"/>
                </a:solidFill>
                <a:latin typeface="Calibri"/>
              </a:rPr>
              <a:t>īb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alībpušu  kompetenta pārstāvniecība.</a:t>
            </a:r>
            <a:endParaRPr b="0" lang="en-US" sz="20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traucējošie faktori</a:t>
            </a:r>
            <a:r>
              <a:rPr b="0" lang="lv-LV" sz="2400" spc="-1" strike="noStrike">
                <a:solidFill>
                  <a:srgbClr val="4e3b30"/>
                </a:solidFill>
                <a:latin typeface="Calibri"/>
              </a:rPr>
              <a:t>: </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politikas plānošanas dokumentu un tiesību </a:t>
            </a:r>
            <a:r>
              <a:rPr b="0" lang="lv-LV" sz="2000" spc="-1" strike="noStrike">
                <a:solidFill>
                  <a:srgbClr val="4e3b30"/>
                </a:solidFill>
                <a:latin typeface="Calibri"/>
              </a:rPr>
              <a:t>aktu sociāli-ekonomiskais pamatojums; </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bieža main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procesa izstrādāšanas  steidzam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okumentu tulkojuma nodrošināšana latviešu valod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valdības  politika sociālās drošības jomā </a:t>
            </a:r>
            <a:r>
              <a:rPr b="0" lang="lv-LV" sz="2000" spc="-1" strike="noStrike">
                <a:solidFill>
                  <a:srgbClr val="4e3b30"/>
                </a:solidFill>
                <a:latin typeface="Arial"/>
              </a:rPr>
              <a:t>(</a:t>
            </a:r>
            <a:r>
              <a:rPr b="0" lang="lv-LV" sz="2000" spc="-1" strike="noStrike">
                <a:solidFill>
                  <a:srgbClr val="4e3b30"/>
                </a:solidFill>
                <a:latin typeface="Calibri"/>
              </a:rPr>
              <a:t>pozīciju maiņa </a:t>
            </a:r>
            <a:r>
              <a:rPr b="0" lang="lv-LV" sz="2000" spc="-1" strike="noStrike">
                <a:solidFill>
                  <a:srgbClr val="4e3b30"/>
                </a:solidFill>
                <a:latin typeface="Arial"/>
              </a:rPr>
              <a:t>,</a:t>
            </a:r>
            <a:r>
              <a:rPr b="0" lang="lv-LV" sz="2000" spc="-1" strike="noStrike">
                <a:solidFill>
                  <a:srgbClr val="4e3b30"/>
                </a:solidFill>
                <a:latin typeface="Calibri"/>
              </a:rPr>
              <a:t>valsts sociālās apdrošināšanas speciālā budžeta pieejamība, </a:t>
            </a:r>
            <a:r>
              <a:rPr b="0" lang="lv-LV" sz="2000" spc="-1" strike="noStrike">
                <a:solidFill>
                  <a:srgbClr val="4e3b30"/>
                </a:solidFill>
                <a:latin typeface="Arial"/>
              </a:rPr>
              <a:t>politikas plānošanas dokumentu īstenošana).</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alibri"/>
              </a:rPr>
              <a:t>SDA. Vīzijas.</a:t>
            </a:r>
            <a:r>
              <a:rPr b="0" lang="en-US" sz="2400" spc="-1" strike="noStrike">
                <a:solidFill>
                  <a:srgbClr val="4e3b30"/>
                </a:solidFill>
                <a:latin typeface="Arial"/>
              </a:rPr>
              <a:t>  </a:t>
            </a:r>
            <a:endParaRPr b="0" lang="en-US" sz="2400" spc="-1" strike="noStrike">
              <a:solidFill>
                <a:srgbClr val="4e3b30"/>
              </a:solidFill>
              <a:latin typeface="Franklin Gothic Medium"/>
            </a:endParaRPr>
          </a:p>
        </p:txBody>
      </p:sp>
      <p:sp>
        <p:nvSpPr>
          <p:cNvPr id="414" name=""/>
          <p:cNvSpPr/>
          <p:nvPr/>
        </p:nvSpPr>
        <p:spPr>
          <a:xfrm>
            <a:off x="684360" y="1341360"/>
            <a:ext cx="8064360" cy="59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Calibri"/>
              </a:rPr>
              <a:t>Veikt</a:t>
            </a:r>
            <a:r>
              <a:rPr b="0" lang="lv-LV" sz="2000" spc="-1" strike="noStrike">
                <a:solidFill>
                  <a:srgbClr val="000000"/>
                </a:solidFill>
                <a:latin typeface="Calibri"/>
              </a:rPr>
              <a:t> SDA struktūr</a:t>
            </a:r>
            <a:r>
              <a:rPr b="0" lang="lv-LV" sz="2000" spc="-1" strike="noStrike">
                <a:solidFill>
                  <a:srgbClr val="000000"/>
                </a:solidFill>
                <a:latin typeface="Arial"/>
              </a:rPr>
              <a:t>as optimizāciju,</a:t>
            </a:r>
            <a:r>
              <a:rPr b="0" lang="lv-LV" sz="2000" spc="-1" strike="noStrike">
                <a:solidFill>
                  <a:srgbClr val="000000"/>
                </a:solidFill>
                <a:latin typeface="Calibri"/>
              </a:rPr>
              <a:t> paplašinot sociālo partneru </a:t>
            </a:r>
            <a:r>
              <a:rPr b="0" lang="lv-LV" sz="2000" spc="-1" strike="noStrike">
                <a:solidFill>
                  <a:srgbClr val="000000"/>
                </a:solidFill>
                <a:latin typeface="Arial"/>
              </a:rPr>
              <a:t>pārstāvju </a:t>
            </a:r>
            <a:r>
              <a:rPr b="0" lang="lv-LV" sz="2000" spc="-1" strike="noStrike">
                <a:solidFill>
                  <a:srgbClr val="000000"/>
                </a:solidFill>
                <a:latin typeface="Calibri"/>
              </a:rPr>
              <a:t>loku</a:t>
            </a:r>
            <a:r>
              <a:rPr b="0" i="1" lang="lv-LV" sz="2400" spc="-1" strike="noStrike">
                <a:solidFill>
                  <a:srgbClr val="000000"/>
                </a:solidFill>
                <a:latin typeface="CentSchbook TL"/>
              </a:rPr>
              <a:t> </a:t>
            </a:r>
            <a:r>
              <a:rPr b="0" lang="lv-LV" sz="2000" spc="-1" strike="noStrike">
                <a:solidFill>
                  <a:srgbClr val="000000"/>
                </a:solidFill>
                <a:latin typeface="Calibri"/>
              </a:rPr>
              <a:t>( SDA nolikums, IV. sadaļa, 25.03.2008.SDA sēdes lēmums ).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c42f"/>
                </a:solidFill>
                <a:latin typeface="Calibri"/>
                <a:ea typeface="Arial"/>
              </a:rPr>
              <a:t>∙</a:t>
            </a:r>
            <a:r>
              <a:rPr b="0" lang="lv-LV" sz="2000" spc="-1" strike="noStrike">
                <a:solidFill>
                  <a:srgbClr val="f0a22e"/>
                </a:solidFill>
                <a:latin typeface="Arial"/>
                <a:ea typeface="Arial"/>
              </a:rPr>
              <a:t> </a:t>
            </a:r>
            <a:r>
              <a:rPr b="0" lang="lv-LV" sz="2000" spc="-1" strike="noStrike">
                <a:solidFill>
                  <a:srgbClr val="000000"/>
                </a:solidFill>
                <a:latin typeface="Calibri"/>
                <a:ea typeface="Arial"/>
              </a:rPr>
              <a:t>Bērnu un ģimenes lietu ministrijas pārstāvji</a:t>
            </a:r>
            <a:r>
              <a:rPr b="0" lang="lv-LV" sz="2000" spc="-1" strike="noStrike">
                <a:solidFill>
                  <a:srgbClr val="000000"/>
                </a:solidFill>
                <a:latin typeface="Arial"/>
                <a:ea typeface="Arial"/>
              </a:rPr>
              <a:t> (darbības mērķi saskaņā ar 08.03.2008.MK noteikumiem Nr.687 ”Bērnu un ģimenes lietu ministrijas nolikums”, II sadaļa)</a:t>
            </a:r>
            <a:r>
              <a:rPr b="0" lang="lv-LV" sz="2000" spc="-1" strike="noStrike">
                <a:solidFill>
                  <a:srgbClr val="000000"/>
                </a:solidFill>
                <a:latin typeface="Calibri"/>
                <a:ea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Īpašu uzdevumu ministra sabiedrības integrācijas lietās</a:t>
            </a:r>
            <a:r>
              <a:rPr b="0" lang="lv-LV" sz="2000" spc="-1" strike="noStrike">
                <a:solidFill>
                  <a:srgbClr val="000000"/>
                </a:solidFill>
                <a:latin typeface="Arial"/>
              </a:rPr>
              <a:t>                 </a:t>
            </a:r>
            <a:r>
              <a:rPr b="0" lang="lv-LV" sz="2000" spc="-1" strike="noStrike">
                <a:solidFill>
                  <a:srgbClr val="000000"/>
                </a:solidFill>
                <a:latin typeface="Calibri"/>
              </a:rPr>
              <a:t>sekretariāta pārstāvji</a:t>
            </a:r>
            <a:r>
              <a:rPr b="0" lang="lv-LV" sz="2000" spc="-1" strike="noStrike">
                <a:solidFill>
                  <a:srgbClr val="000000"/>
                </a:solidFill>
                <a:latin typeface="Arial"/>
              </a:rPr>
              <a:t> (2001. gada MK Valsts programma ”Sabiedrības integrācija Latvijā”, darbības mērķi sabiedrības sociālās integrācijas jomā) </a:t>
            </a:r>
            <a:r>
              <a:rPr b="0" lang="lv-LV" sz="2000" spc="-1" strike="noStrike">
                <a:solidFill>
                  <a:srgbClr val="000000"/>
                </a:solidFill>
                <a:latin typeface="Calibri"/>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palielināt LDDK un LBAS pārstāvju skaitu līdz 5</a:t>
            </a:r>
            <a:r>
              <a:rPr b="0" lang="lv-LV" sz="2000" spc="-1" strike="noStrike">
                <a:solidFill>
                  <a:srgbClr val="000000"/>
                </a:solidFill>
                <a:latin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Arial"/>
              </a:rPr>
              <a:t>N</a:t>
            </a:r>
            <a:r>
              <a:rPr b="1" lang="lv-LV" sz="2000" spc="-1" strike="noStrike">
                <a:solidFill>
                  <a:srgbClr val="000000"/>
                </a:solidFill>
                <a:latin typeface="Calibri"/>
              </a:rPr>
              <a:t>odrošināt</a:t>
            </a:r>
            <a:r>
              <a:rPr b="0" lang="lv-LV" sz="2000" spc="-1" strike="noStrike">
                <a:solidFill>
                  <a:srgbClr val="000000"/>
                </a:solidFill>
                <a:latin typeface="Calibri"/>
              </a:rPr>
              <a:t> sociālo partneru plašāku līdzdalību  </a:t>
            </a:r>
            <a:r>
              <a:rPr b="0" lang="lv-LV" sz="2000" spc="-1" strike="noStrike">
                <a:solidFill>
                  <a:srgbClr val="000000"/>
                </a:solidFill>
                <a:latin typeface="Calibri"/>
                <a:ea typeface="Arial"/>
              </a:rPr>
              <a:t> </a:t>
            </a:r>
            <a:r>
              <a:rPr b="0" lang="lv-LV" sz="2000" spc="-1" strike="noStrike">
                <a:solidFill>
                  <a:srgbClr val="000000"/>
                </a:solidFill>
                <a:latin typeface="Calibri"/>
              </a:rPr>
              <a:t>politikas plānošanas dokumentu un tiesību aktu  izstrādāšanas gaitā.</a:t>
            </a:r>
            <a:r>
              <a:rPr b="0" lang="lv-LV" sz="2400" spc="-1" strike="noStrike">
                <a:solidFill>
                  <a:srgbClr val="000000"/>
                </a:solidFill>
                <a:latin typeface="Calibri"/>
              </a:rPr>
              <a:t> </a:t>
            </a:r>
            <a:endParaRPr b="0" i="1" lang="en-US" sz="24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ea typeface="Arial"/>
              </a:rPr>
              <a:t>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30:38Z</dcterms:created>
  <dc:creator>EvijaM</dc:creator>
  <dc:description/>
  <dc:language>en-US</dc:language>
  <cp:lastModifiedBy>Sanita Diediske</cp:lastModifiedBy>
  <dcterms:modified xsi:type="dcterms:W3CDTF">2008-05-09T08:35:29Z</dcterms:modified>
  <cp:revision>472</cp:revision>
  <dc:subject/>
  <dc:title>Informatīvais ziņojums par  Nacionālā rīcības plāna  nabadzības un sociālās atstutmības mazināšanai (2004-2006)  īstenošanu 2005.gadā</dc:title>
</cp:coreProperties>
</file>